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3A8-7492-4DFB-A6AA-E7A2C80C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689-89CC-4F09-AFA1-D72BDDE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A73-9872-4DBD-AB0E-3D677FB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DB9-D3B8-487D-986F-F861E8BE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82F2-8E84-4BA4-873A-C70B7BBB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1F02-6275-4163-B3F7-4A3488C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9D6A-1720-49FD-976A-E4863317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BA56-1A9B-4895-A313-F4173B30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AD30-00DE-4223-8FCD-776BCAD8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829D-B038-4A9A-B1D4-92C9F33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0145-BC13-40F3-A042-EA60D51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793-1136-4EFC-A127-10F2E34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863-CA78-45F7-90ED-01237FE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692-EF5F-41EB-9083-1AB1E47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B9B-40C7-40B3-9858-21F46CDB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97F5-70DB-4EFD-9C90-B7060286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43C-32F4-43B6-89AD-5C72DC58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1B7-B1DD-4CC9-87B8-FB129065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F5F-69B2-4B23-B3AB-B96C3CFB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5BD-16A0-4778-A7A4-F60C83D2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B46-9BB1-4BA4-96AF-2595F2A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478-7796-4D53-B01F-AE1B9C1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047-0D66-4E0F-94B5-0C83DED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CFB-DD8A-488A-95B5-E2C02AA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72B-D8EB-47A8-AED7-4DB70BF43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2F5-4004-4306-AEB4-63C69674B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ertabrates and Invertabrat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1074600" cy="13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86600" y="-2057400"/>
            <a:ext cx="1444680" cy="182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63760" cy="2505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can be classified as either vertebrates or inverteb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erteb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animal that has a backb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verteb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animal that does not have a backb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448920" y="380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1800360" y="304920"/>
            <a:ext cx="1800360" cy="148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77 -0.18935 C 0.10695 -0.22107 0.15729 -0.25278 0.1842 -0.23241 C 0.21111 -0.21204 0.18872 -0.08218 0.21806 -0.06667 C 0.2474 -0.05139 0.32969 -0.16065 0.36007 -0.13982 C 0.39045 -0.11898 0.39358 0.025 0.40035 0.0581 E">
                                      <p:cBhvr>
                                        <p:cTn id="4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7:25:16Z</dcterms:created>
  <dc:creator>nbdoe</dc:creator>
  <dc:description/>
  <dc:language>en-US</dc:language>
  <cp:lastModifiedBy>nbdoe</cp:lastModifiedBy>
  <dcterms:modified xsi:type="dcterms:W3CDTF">2008-10-01T16:01:09Z</dcterms:modified>
  <cp:revision>6</cp:revision>
  <dc:subject/>
  <dc:title>Vertabrates and Invertabrates</dc:title>
</cp:coreProperties>
</file>